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BA0-1D44-4F23-895D-C10F14F6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C99-F423-457C-9521-A5834BCC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B06-CF1C-4678-9E1B-FD33D6EA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72CB-8379-41D4-8F7E-3BBD75D1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362-F327-4684-851E-97A1E897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F3D-3650-4E4C-A0B2-425252F9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1D4-9CC2-4ED1-B3AE-286778F0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A67-5D32-4A01-9D0B-4E39784D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A87-BD5D-4B95-B2E9-CD283202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1CD-C7D8-4722-8F21-1AE39505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BF2-4FB8-46BF-A096-C174ECA5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F0DA-308C-42F8-8EA8-515D4240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46F1-F275-4154-B00E-C434F56B1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cs.whfreeman.com/thelifewire/content/chp13/1302002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lacoper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rp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yptoph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amino acid needed for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stinal bacteria cells can obtain tryptophan from a mammalian diet, or they can synthesize it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rp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pero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a promoter, an operator, and 5 ge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5 genes code for 3 enzymes needed to synthesize tryptop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2095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rp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no tryptophan present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able to bind to the operator, and RNA polymerase is free to bind to the promoter and initiate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tryptophan present, it binds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sor protein, altering its shape so that it can bind to the operator;  tryptophan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pr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r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peron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cs.whfreeman.com/thelifewire/content/chp13/130200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Mechans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uman genome contains about 20000-25000 genes that code for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usekeeping ge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de for proteins that are always needed in a cell;  they are constantly being transcribed and trans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l proteins are needed by all cells at all times, s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 regul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to an organism's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Mechans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ukaryotic cells, there are 4 levels of gene reg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transcri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transl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see Table 1 on page 255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Mechans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proteins that bind to DNA and assist RNA polymerase in binding to DNA to "turn on" genes when they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karyotic cells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ntrol gene expre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luster of genes with o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moter region, and a sequenc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s called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p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t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disaccharide found in milk or milk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stinal bacteria cells split lactose (into glucose and galactose) to generate energy for growth using the enzy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a-galactosid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p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per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a promoter, an operator, and 3 ge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c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des for beta-galactosid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des for beta-galactosidase permease (makes cell membrane permeable to lact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des for transacetylase (unknown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p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98600" y="1752480"/>
            <a:ext cx="4483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p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no lactose present,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I prote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nds to the operator, which partially blocks the promoter region, preventing RNA polymerase from binding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I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sor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actose is present, it binds to the LacI protein, changing its shape and causing it to fall off of the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ose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l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ac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on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manasinc.com/webcontent/animations/content/lacopero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0:09:53Z</dcterms:created>
  <dc:creator>rubina khan</dc:creator>
  <dc:description/>
  <dc:language>en-US</dc:language>
  <cp:lastModifiedBy>rubina khan</cp:lastModifiedBy>
  <dcterms:modified xsi:type="dcterms:W3CDTF">2011-11-17T18:52:38Z</dcterms:modified>
  <cp:revision>32</cp:revision>
  <dc:subject/>
  <dc:title>Protein Synthesis</dc:title>
</cp:coreProperties>
</file>